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EEC8-6AD0-4255-812A-E2328A03AF8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DCD6-AE89-4006-89F9-146E21159AD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1498-12CF-4112-B8EA-BABA2FE062B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0DCE-CA8F-4F8E-A83B-A74213ED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1868-C220-4FBC-9D82-B4566F67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CE85-CB32-4218-AB32-1585486B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DC81-C3DB-4C17-A8EC-A2BB3E7E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03A1-7871-4916-BCAC-D1C1B703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538F-882E-4376-AB3C-54A0520F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59E7-4909-49FA-93E3-44FB1A06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FDCB-E24E-40F4-A042-B438C882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9229-D900-4267-9720-FCAA75E7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464B-E77E-4E1E-9DD0-D291CC9D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D90B-293D-484D-86FA-6978B3F5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3A78-B93B-4F6E-959F-C61F0351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C588-7D36-46F2-80C3-C3259852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A724-D538-44A9-A297-0558D5BD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6276-823B-463A-B450-11D05CF9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21B5-DC65-4719-BE7A-7F6DDFA3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7828-BA64-4BE9-B903-EA692A78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90E79-AA6B-42AC-AB87-E5F241DC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7C0A9-FB83-44D7-B485-84C16F34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AEB5F-ECFC-489C-ACE8-AE5EBE52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2A236-3664-42B1-8D29-77C9610F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7C7E2-DAAF-4442-966D-95B553BF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674F-6E59-484B-8929-D765FE97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44647-C783-478C-88DA-FE2A6BB1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734F5-E504-4E26-AE3F-98F8DCEF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9DB93-6C8A-4B04-B200-4E1B670A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9D8BD-1EA5-46E4-97DE-11A0727E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9F853-32D2-4FD1-9CD4-6D831F39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FE0A0-B733-43EC-A6D9-29263767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66717-C7C6-4083-87E5-4A02FEB8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67839-2399-43E5-9527-DDC550CA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9B432-0B19-422C-A548-92A954C4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1132B-2611-460D-B39D-C017CCEB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6A7E-7331-4087-96C0-A51A8FB5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C9490-3D61-4434-B155-FC12EE51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374E4-93D2-4829-88B6-3E147FCE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0ADA6-E55C-47B8-A901-F29E61E9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9CB4A-580F-4413-8EB7-875ABFBC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1B42D-3A41-4251-90D9-BE6E3F9A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5FFA5-025A-4B3C-8445-018F4065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7629B-3E9F-41F1-A442-BDA3DAF3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819F1-2E3F-4827-B577-328BD6F0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84D57-AC3E-44C1-90EE-49650EDA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8516E-873B-441F-9FD0-44E182F2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9C98-873A-413E-B306-5D324A28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60652-2882-4B5E-9B78-13D5194C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4BB92-28FE-484B-BFBF-45435F2B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2244E-3853-4415-9B6C-E72A2C83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AB44B-CF4C-4360-AABE-BDB24649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6AEA9-2541-4389-905C-9AE7AFD5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5D20D-41C6-4E6D-8CB3-83856FFA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88D1A-E697-4054-904D-D6689262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64116-7366-4765-9FA4-D4C51646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A5753-672F-4DF0-BB23-615E9946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71F98-8349-40DC-8136-AF5A9F86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8650-6990-476A-BB85-2E7E0540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ED88A-25ED-4DDD-B4B5-C79455A6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D9311-2F9B-4F38-AB66-2AB30092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7E6FE-690B-4BA9-A2F4-E9B755F1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11992-8DA8-4230-80DA-D9DF4974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DE9B5-5106-4E7A-B360-472E05F2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91334-9D59-495E-A019-D3A19733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32039-922F-47CF-B6A7-AAEB9C9D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A11EE-4F58-4198-87B5-F687823E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245CE-35AA-47D8-91EF-9B8A150E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CFD17-57E7-49FF-A7BF-D6020CD8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DC4B-0FCE-46F0-B086-77246189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69B14-3187-434E-8170-92923408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B9382-5FC3-445F-8EB4-E8F9CD38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8F7FB-BA73-41EA-A6B9-918B1850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5686-5618-49B9-9860-32875E50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B150-5616-4DA8-9DE8-88FD0347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74DD-A4AC-4370-AC4C-D6ED568FA928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5F7F-4E07-400F-A051-5281FB2CF3B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7D4E-E4F9-4E5F-B912-2FA17AB96DAA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B9FE-8176-44BE-AA45-6273E3F34884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F5B8-0FE2-43DE-98D2-EA7A05A6876E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7FD0-C175-46BB-92CE-ABD1B5ED4B3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3609-C4EF-4E8F-BFBD-2B1D09E37EB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6682-E1F5-4B6F-866B-4F57BCD9A80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CB89-3CC7-45A5-91D3-F9F1F806F068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E961-3D2A-4BF8-9F80-77CB7E809F8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CCE0-34A2-4F9D-B68C-09D411EE0DE7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990B-0E80-491A-870B-0C49790B541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Agosto/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setembr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334800" y="6286680"/>
            <a:ext cx="108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353880" y="1413000"/>
            <a:ext cx="10782360" cy="49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388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Agost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51000" y="6469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m 1" descr=""/>
          <p:cNvPicPr/>
          <p:nvPr/>
        </p:nvPicPr>
        <p:blipFill>
          <a:blip r:embed="rId1"/>
          <a:stretch/>
        </p:blipFill>
        <p:spPr>
          <a:xfrm>
            <a:off x="379440" y="1484280"/>
            <a:ext cx="1075680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34800" y="731880"/>
            <a:ext cx="1080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63520" y="6483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1" descr=""/>
          <p:cNvPicPr/>
          <p:nvPr/>
        </p:nvPicPr>
        <p:blipFill>
          <a:blip r:embed="rId1"/>
          <a:stretch/>
        </p:blipFill>
        <p:spPr>
          <a:xfrm>
            <a:off x="382680" y="1450800"/>
            <a:ext cx="10753560" cy="50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85840" y="836640"/>
            <a:ext cx="108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Agosto (2016 e 2017) – Em R$ milhões de Agost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85840" y="64641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1055520" y="1700280"/>
            <a:ext cx="1008072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Agost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magem 1" descr=""/>
          <p:cNvPicPr/>
          <p:nvPr/>
        </p:nvPicPr>
        <p:blipFill>
          <a:blip r:embed="rId1"/>
          <a:stretch/>
        </p:blipFill>
        <p:spPr>
          <a:xfrm>
            <a:off x="1055520" y="1527120"/>
            <a:ext cx="10080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Agosto (2016 e 2017) – Em R$ milhões de Agost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0" y="633744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m 1" descr=""/>
          <p:cNvPicPr/>
          <p:nvPr/>
        </p:nvPicPr>
        <p:blipFill>
          <a:blip r:embed="rId1"/>
          <a:stretch/>
        </p:blipFill>
        <p:spPr>
          <a:xfrm>
            <a:off x="1055520" y="1557360"/>
            <a:ext cx="10080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3880" y="836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e Agost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m 1" descr=""/>
          <p:cNvPicPr/>
          <p:nvPr/>
        </p:nvPicPr>
        <p:blipFill>
          <a:blip r:embed="rId1"/>
          <a:stretch/>
        </p:blipFill>
        <p:spPr>
          <a:xfrm>
            <a:off x="1055520" y="1700280"/>
            <a:ext cx="1008072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Agost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12840" y="645480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1055520" y="1484280"/>
            <a:ext cx="10080720" cy="48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1-26T10:42:46Z</cp:lastPrinted>
  <dcterms:modified xsi:type="dcterms:W3CDTF">2017-09-21T20:41:11Z</dcterms:modified>
  <cp:revision>433</cp:revision>
  <dc:subject/>
  <dc:title>Demografia</dc:title>
</cp:coreProperties>
</file>